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EBD-1C42-43C2-BB92-9F6EAD02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77B-98B3-48F4-B948-49AE6B11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D1A-55E6-4929-BBDB-56B8750E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C6B-EC13-445B-8AED-4B7A3AAB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F764-8CBF-4ECB-87E3-F5EE988F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7E4-4C6A-4D57-81AC-3FBF1EE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918-0C02-4542-A1B0-A6153C7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C09F-66B0-4EBA-B7D5-784C322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9B7A-ED66-443B-84C5-786D108C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6E3F-859E-40B8-B57B-071B715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2745-6A4E-415B-A252-ABBBAF5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E58-BFB6-43AD-8245-A3B82060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39A-4CA7-4B26-B4CF-87D6695A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15B-C460-4191-AC6D-88C047A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A2A1-9129-420B-A507-715813C7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0E89-3834-4496-9A0E-3F8641DC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FA93-C2DD-4307-B87F-04D6BAB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EC8-2CB4-4AF5-93FF-5501282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C19-EE57-48D2-9BAB-D712C99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938-8B74-4117-AC75-B6ECA6F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F56-8F11-4C2F-8A97-DC598935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66B-9AFC-4AE6-96B6-2C730CD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A0F-F01A-4373-B048-CAC2392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0A7-9DFE-424D-A083-EC483A8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F00-5019-426C-A3C8-3D86EF85A3F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EB41-61E8-4C54-8FF3-672D7BC1F77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848720" cy="3733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ecf5"/>
                </a:solidFill>
                <a:latin typeface="Harrington"/>
              </a:rPr>
              <a:t>INTELLIGENC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7080" y="548604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Jung Ki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enny Jou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Origi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Intelligenc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the mental abilities to select, adapt to and shape environment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havior reflects capacity to learn from experience, solve problems, and to reason precisely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Binet/Sim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ssumed that children follow the same course of development but some are more “bright” while some are “dull.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768760" cy="284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43400" y="3429000"/>
            <a:ext cx="3200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Mental A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ntal Age- chronological age typical of a given level of performanc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4800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Mental Age Measur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veloped varied reasoning and problem-solving question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733560" cy="290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Innate IQ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5345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anford-Binet: widely used American revision of Binet’s intelligence test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ewis Terman adapted Binet’s test and revised it for the American childre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st range was changed from teenagers to adult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IQ (Intelligence Quotient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Q= simply a person’s mental age divided by chronological age and multiplied by 100 to get rid of the decima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Q=mental age ÷ chronological age x 1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ino"/>
              </a:rPr>
              <a:t>Today’s Intelligence Tes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lligence tests don’t compute an IQ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duce a mental ability score based on the test-taker’s performanc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rm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quotient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from intelligence quotient no longer exis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lligence test scor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Jung Kim</cp:lastModifiedBy>
  <dcterms:modified xsi:type="dcterms:W3CDTF">2009-05-04T10:56:10Z</dcterms:modified>
  <cp:revision>9</cp:revision>
  <dc:subject/>
  <dc:title>INTELLIGENCE</dc:title>
</cp:coreProperties>
</file>